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777-2EA6-4A61-9135-166C750E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544-6056-4AE0-A9A8-E724476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860-D7FE-4E06-9240-5433A540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25D-C055-4544-8BE5-DFE076E8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D4D-9741-43A9-A40F-46297EAA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BC5-82B7-476D-B0C2-2AB82FA8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94D-F599-453F-9F9F-8725C56B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E70-EFE5-41D8-A826-B0D1E11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13C-ADCD-4683-BE26-D049DF6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19-710C-451D-BF61-71D3F77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EA-DC30-4AFE-8844-0B0E7201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2B0-7380-479A-8DC7-20214EC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0C30-58DE-44A0-8206-F4A5E8B626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King of K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14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n in a sta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humbly riding on a don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suffers for His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0520" y="1600200"/>
            <a:ext cx="802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5130" r="11539" b="0"/>
          <a:stretch/>
        </p:blipFill>
        <p:spPr>
          <a:xfrm>
            <a:off x="0" y="0"/>
            <a:ext cx="9296280" cy="735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calls all people of the world to be his subje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rose from the d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191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will reign for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loves and ca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you and me person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King of kings,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Lord of lord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mes to your mind when you think of “K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98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er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9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g of Far Far 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14600"/>
            <a:ext cx="7391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76"/>
          <a:stretch/>
        </p:blipFill>
        <p:spPr>
          <a:xfrm>
            <a:off x="1295280" y="380880"/>
            <a:ext cx="6324840" cy="474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losest Thing we have to a Kingdom in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Inkpen2 Script"/>
              </a:rPr>
              <a:t>Disn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life king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563868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Juan Carlos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13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a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omp and sty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548"/>
          <a:stretch/>
        </p:blipFill>
        <p:spPr>
          <a:xfrm>
            <a:off x="380880" y="1289160"/>
            <a:ext cx="8153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Jesus is a King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of a different ki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5:52:40Z</dcterms:created>
  <dc:creator>Frank Schaefer</dc:creator>
  <dc:description/>
  <dc:language>en-US</dc:language>
  <cp:lastModifiedBy>Frank Schaefer</cp:lastModifiedBy>
  <dcterms:modified xsi:type="dcterms:W3CDTF">2010-03-09T21:13:15Z</dcterms:modified>
  <cp:revision>13</cp:revision>
  <dc:subject/>
  <dc:title>The King of Kings</dc:title>
</cp:coreProperties>
</file>